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3AB-C2A4-417F-BF6E-43626A0F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357-91D1-4362-8317-A887C99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020-3F1A-4578-AF0E-579F5204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D73-5D89-45C6-808F-314AB052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B7F7-8C69-4C0A-A657-49E4F298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5FF-AE17-4400-845D-81FE21CC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E64-6116-4EB0-9F4A-9C261ED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709-31F1-48E6-AF7F-26A91241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AE60-BC08-4633-B487-348E6FC9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E01-5297-4153-BA1C-252261CC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225-C8EA-47F5-B8AE-DEFA5A5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3A4-DE91-4540-BA98-B281D72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EFD-FD3A-4FE5-B5CB-3F52A1B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6649-C204-4FB9-920E-0891EF7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D2AF-658E-4C1B-990F-781E7214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107-AC90-4377-A0E0-D07E242C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B7EE-757B-44F1-9ED5-307ED0CF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165-0AC5-4C39-B8E0-025304D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A01-4BFA-40A3-A23C-3C0E781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23B-4165-4761-818F-30346B9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AC0-837F-45F9-A8B5-9FDA895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DCD-ED0A-4F16-AA60-15F939A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9DB-29AE-40D6-A86D-59DDE1B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864-3735-4010-950D-647D163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E6E-E58E-4329-8F53-A796FD96040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5B5-3F3C-4B07-92F5-AD6078CECF3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ESCOLA MUNICIPAL BRINCANDO DE APRENDER -POLO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69840" y="2852640"/>
            <a:ext cx="727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 TECNOLOGIA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NA MINHA ESCOLA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lisabete Cano Sabino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542960"/>
            <a:ext cx="44481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utadores (secretaria, sala dos professores, STE - implantando 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levisão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ídeo e DVDs TV Escola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áquina fotográfica digital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arelho de so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escola deve integrar as tecnologias de informação e comunicação porque  elas já estão presentes e influentes em todas as esferas da vida social, cabendo à escola, especialmente à escola pública, atuar no sentido de compensar as terríveis desigualdades sociais e regionais que o acesso desigual a estas máquinas esta gerando.(BELLONI, 2001, p.23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FERÊNCI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LLONI, M. L.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O que é mídia-educação.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mpinas: Autores Associados, 2001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1:21:39Z</dcterms:created>
  <dc:creator>sistema</dc:creator>
  <dc:description/>
  <dc:language>en-US</dc:language>
  <cp:lastModifiedBy>sistema</cp:lastModifiedBy>
  <dcterms:modified xsi:type="dcterms:W3CDTF">2009-05-29T13:18:44Z</dcterms:modified>
  <cp:revision>4</cp:revision>
  <dc:subject/>
  <dc:title>ESCOLA MUNICIPAL BRINCANDO DE APRENDER -PÓLO</dc:title>
</cp:coreProperties>
</file>